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4934-98B8-415F-9D8C-BD392D4107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the set design above (all these pictures are from different productions of the same play) the shower room is given it's own level, which is a great idea. That means people on the bedroom level attempting to take a shower have to walk along the ramp and down the stairs in a big old hangdog robe and carrying a brush on a stick...which strikes me as funny. If they forget something they have to do it all over again, calling attention to themselves when they'd rather be stealthy. It creates tension on the stage and would probably do the same in real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ofa (above) has its back to the window and doors, a placement with lots of potential for surprise and gags. If you were sitting on the sofa you might have no idea that someone had just come in behind you, and don't even think about necking in priv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f this were a real house the owner wouldn't be inconvenienced. He'd be sitting on a second sofa in the foreground facing the window, watching everybody else's confusion. This idea is too good to use only on the stage, or the Jerry Springer show. Let's see real living rooms designed lik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you think about it, it's an interesting set (above). There are three doors on the bottom floor and four on the mezzanine, plenty of opportunity for confusion. Plenty of opportunity too, for the percussive sounds of slamming doors and thumping staircase runs. The set is electric with potential.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7DFB9-74D9-4C79-8FB9-D7858741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9C0F-FAD6-4C15-95C4-78184AE8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4AD80-ABBD-4888-B9C6-D88675BCB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F19B2-188A-455D-A12C-91C91863D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CEA0-6F64-4770-A09D-595E5109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9AD2-3343-4B4F-AAC0-BCE9D758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74A9-CEDC-4809-B412-89A44A62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490F-165C-4AE4-A327-F7C26B2E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200DA-9C19-466B-9121-2B358C453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3112-5EE0-4632-8E32-B144B8CC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FD38-6E29-40BC-9944-E40922C1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CFB8-FDA0-4B37-A6F4-06BB318F1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8BAD-61BE-4264-A281-31D84331F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1.xml"/><Relationship Id="rId1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e Desig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sign a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architecture of these 4 sets from the same play.</a:t>
            </a:r>
            <a:endParaRPr b="0" lang="en-US" sz="3200" spc="-1" strike="noStrike">
              <a:solidFill>
                <a:srgbClr val="000000"/>
              </a:solidFill>
              <a:latin typeface="Arial"/>
            </a:endParaRPr>
          </a:p>
        </p:txBody>
      </p:sp>
      <p:pic>
        <p:nvPicPr>
          <p:cNvPr id="67" name="" descr=""/>
          <p:cNvPicPr/>
          <p:nvPr/>
        </p:nvPicPr>
        <p:blipFill>
          <a:blip r:embed="rId1"/>
          <a:stretch/>
        </p:blipFill>
        <p:spPr>
          <a:xfrm>
            <a:off x="838080" y="1600200"/>
            <a:ext cx="3275280" cy="2185920"/>
          </a:xfrm>
          <a:prstGeom prst="rect">
            <a:avLst/>
          </a:prstGeom>
          <a:ln w="0">
            <a:noFill/>
          </a:ln>
        </p:spPr>
      </p:pic>
      <p:pic>
        <p:nvPicPr>
          <p:cNvPr id="68" name="" descr=""/>
          <p:cNvPicPr/>
          <p:nvPr/>
        </p:nvPicPr>
        <p:blipFill>
          <a:blip r:embed="rId2"/>
          <a:stretch/>
        </p:blipFill>
        <p:spPr>
          <a:xfrm>
            <a:off x="5175360" y="1600200"/>
            <a:ext cx="2984400" cy="2185920"/>
          </a:xfrm>
          <a:prstGeom prst="rect">
            <a:avLst/>
          </a:prstGeom>
          <a:ln w="0">
            <a:noFill/>
          </a:ln>
        </p:spPr>
      </p:pic>
      <p:pic>
        <p:nvPicPr>
          <p:cNvPr id="69" name="" descr=""/>
          <p:cNvPicPr/>
          <p:nvPr/>
        </p:nvPicPr>
        <p:blipFill>
          <a:blip r:embed="rId3"/>
          <a:stretch/>
        </p:blipFill>
        <p:spPr>
          <a:xfrm>
            <a:off x="1017720" y="3938760"/>
            <a:ext cx="2916000" cy="2187360"/>
          </a:xfrm>
          <a:prstGeom prst="rect">
            <a:avLst/>
          </a:prstGeom>
          <a:ln w="0">
            <a:noFill/>
          </a:ln>
        </p:spPr>
      </p:pic>
      <p:pic>
        <p:nvPicPr>
          <p:cNvPr id="70" name="" descr=""/>
          <p:cNvPicPr/>
          <p:nvPr/>
        </p:nvPicPr>
        <p:blipFill>
          <a:blip r:embed="rId4"/>
          <a:stretch/>
        </p:blipFill>
        <p:spPr>
          <a:xfrm>
            <a:off x="5137200" y="3938760"/>
            <a:ext cx="3058920" cy="2187360"/>
          </a:xfrm>
          <a:prstGeom prst="rect">
            <a:avLst/>
          </a:prstGeom>
          <a:ln w="0">
            <a:noFill/>
          </a:ln>
        </p:spPr>
      </p:pic>
      <p:sp>
        <p:nvSpPr>
          <p:cNvPr id="71" name=""/>
          <p:cNvSpPr txBox="1"/>
          <p:nvPr/>
        </p:nvSpPr>
        <p:spPr>
          <a:xfrm>
            <a:off x="304920" y="2324160"/>
            <a:ext cx="171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1</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72" name=""/>
          <p:cNvSpPr txBox="1"/>
          <p:nvPr/>
        </p:nvSpPr>
        <p:spPr>
          <a:xfrm>
            <a:off x="4724280" y="2438280"/>
            <a:ext cx="22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2</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73" name=""/>
          <p:cNvSpPr txBox="1"/>
          <p:nvPr/>
        </p:nvSpPr>
        <p:spPr>
          <a:xfrm>
            <a:off x="457200" y="4800600"/>
            <a:ext cx="237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3</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74" name=""/>
          <p:cNvSpPr txBox="1"/>
          <p:nvPr/>
        </p:nvSpPr>
        <p:spPr>
          <a:xfrm>
            <a:off x="4724280" y="4838760"/>
            <a:ext cx="228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4</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BACKGROUND!</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t>
            </a:r>
            <a:r>
              <a:rPr b="1" lang="en-US" sz="2800" spc="-1" strike="noStrike" u="sng">
                <a:solidFill>
                  <a:srgbClr val="000000"/>
                </a:solidFill>
                <a:uFillTx/>
                <a:latin typeface="Arial"/>
              </a:rPr>
              <a:t>style</a:t>
            </a: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Realistic, Stylistic, Cartoonish</a:t>
            </a:r>
            <a:endParaRPr b="0" lang="en-US" sz="2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a:t>
            </a:r>
            <a:r>
              <a:rPr b="1" lang="en-US" sz="2800" spc="-1" strike="noStrike" u="sng">
                <a:solidFill>
                  <a:srgbClr val="000000"/>
                </a:solidFill>
                <a:uFillTx/>
                <a:latin typeface="Arial"/>
              </a:rPr>
              <a:t>mood</a:t>
            </a: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Happy, Fearful, Businesslike, Historical, Gloomy, etc.</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s INFORMATION!</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en and where the play takes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ry required by the ACTION</a:t>
            </a:r>
            <a:endParaRPr b="0" lang="en-US" sz="32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haracter hides in a closet, there has to be a clo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ust a good set hav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tral focus (use of full stag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lors, textures, sizes and shap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ation is evi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design a se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play carefully!</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know the theme, style, tone, mood of the play.  If it is not specifically stated, it is up to you the DESIGNER to decide what it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design a set?</a:t>
            </a:r>
            <a:br>
              <a:rPr sz="4000"/>
            </a:br>
            <a:r>
              <a:rPr b="0" lang="en-US" sz="4000" spc="-1" strike="noStrike" u="sng">
                <a:solidFill>
                  <a:srgbClr val="000000"/>
                </a:solidFill>
                <a:uFillTx/>
                <a:latin typeface="Arial"/>
              </a:rPr>
              <a:t>Step 1</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round plan</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tion</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f you were looking down on the stage from the ceiling</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ctual size of stage and create a scale for your drawing</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a:t>
            </a:r>
            <a:endParaRPr b="0" lang="en-US" sz="24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doors?  Windows?  Where do they go?  Envision the whole building.  Should there be levels to distinguish between rooms or places?</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niture Arrangement</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imple shapes (circles, squares, rectangles) to show where set props will be located.</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each item on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design a set?</a:t>
            </a:r>
            <a:br>
              <a:rPr sz="4000"/>
            </a:br>
            <a:r>
              <a:rPr b="0" lang="en-US" sz="4000" spc="-1" strike="noStrike" u="sng">
                <a:solidFill>
                  <a:srgbClr val="000000"/>
                </a:solidFill>
                <a:uFillTx/>
                <a:latin typeface="Arial"/>
              </a:rPr>
              <a:t>Steps 2 and 3</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front view drawings a.k.a. perspective or elevation drawings</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wing should show details, to scale of what the set will look like (colored)</a:t>
            </a:r>
            <a:endParaRPr b="0" lang="en-US" sz="28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Designer’s Model</a:t>
            </a:r>
            <a:endParaRPr b="0" lang="en-US" sz="3200" spc="-1" strike="noStrike">
              <a:solidFill>
                <a:srgbClr val="000000"/>
              </a:solidFill>
              <a:latin typeface="Arial"/>
            </a:endParaRPr>
          </a:p>
          <a:p>
            <a:pPr lvl="1" marL="990720" indent="-53352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3-D model of your set.  You can use </a:t>
            </a:r>
            <a:r>
              <a:rPr b="0" i="1" lang="en-US" sz="2800" spc="-1" strike="noStrike">
                <a:solidFill>
                  <a:srgbClr val="000000"/>
                </a:solidFill>
                <a:latin typeface="Arial"/>
              </a:rPr>
              <a:t>Google SketchUp </a:t>
            </a:r>
            <a:r>
              <a:rPr b="0" lang="en-US" sz="2800" spc="-1" strike="noStrike">
                <a:solidFill>
                  <a:srgbClr val="000000"/>
                </a:solidFill>
                <a:latin typeface="Arial"/>
              </a:rPr>
              <a:t>or build your set in a shoe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971800" y="228600"/>
            <a:ext cx="2998800" cy="4443480"/>
          </a:xfrm>
          <a:prstGeom prst="rect">
            <a:avLst/>
          </a:prstGeom>
          <a:ln w="0">
            <a:noFill/>
          </a:ln>
        </p:spPr>
      </p:pic>
      <p:sp>
        <p:nvSpPr>
          <p:cNvPr id="65" name=""/>
          <p:cNvSpPr/>
          <p:nvPr/>
        </p:nvSpPr>
        <p:spPr>
          <a:xfrm>
            <a:off x="304920" y="472428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s Off?" It's a fast-paced farce where all sorts of misunderstandings occur because people enter the room at awkward and unpredictable times and frequently leave by the wrong door. People are always frantically looking for someone who's on the balcony right above their heads, or who's just disappeared behind another door. It's a play where the set design is cruci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39:35Z</dcterms:created>
  <dc:creator>user</dc:creator>
  <dc:description/>
  <dc:language>en-US</dc:language>
  <cp:lastModifiedBy> </cp:lastModifiedBy>
  <dcterms:modified xsi:type="dcterms:W3CDTF">2011-12-07T17:39:50Z</dcterms:modified>
  <cp:revision>13</cp:revision>
  <dc:subject/>
  <dc:title>Scene Design</dc:title>
</cp:coreProperties>
</file>